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1.jpeg" ContentType="image/jpeg"/>
  <Override PartName="/ppt/media/image9.png" ContentType="image/png"/>
  <Override PartName="/ppt/media/image6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10.png" ContentType="image/png"/>
  <Override PartName="/ppt/media/image4.jpeg" ContentType="image/jpeg"/>
  <Override PartName="/ppt/media/image13.gif" ContentType="image/gif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9A8A-2F14-489A-B992-2A77775CCD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B8C2-2F7C-4109-BA1B-BD9FD812C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6AE2-9643-4F44-B0B4-C3D4B4F157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CE54-CCB3-47AE-91D2-A5B90967EA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B1F1-60CD-4E1D-A1E4-F44474C397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331D-9724-4141-B6FD-BEDB47844E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C7BC-4D4D-40A4-9EB6-E480BC25C9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9991-38BC-45D0-8FC0-5E21C1C58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8DD0-74CD-41F1-AC45-129897D884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09B7-304E-471A-8FE2-B73C09150F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9C5B-B0E1-4697-8AA9-51793CA7C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2DB-4A55-4E38-94E4-76ED4F0E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A19-ACC2-49F6-A56C-5201CF16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EB1-8080-48B8-B8C1-4C933D78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093-4865-43B1-8084-579D5F1A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BBD8-1A4A-4089-9514-8A5B986D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4C4D-06AF-4858-8A87-42B0DD02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9B11-31A0-4134-B496-E5E4E078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C904-8C01-439D-8234-F79A19AC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A192-D431-4B26-90AC-1675B487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8DAC-64E0-4924-8A75-DF85DACF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9576-4FC0-40AE-8B53-251844D1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E51-FE67-495F-9AC0-5EAAE080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4241-F161-4BAE-A058-C121DCD4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B0DE-5249-4A2D-97F6-769897FD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E0CE-7BD9-4D59-A728-1E9B0D8F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7230-4906-4533-8345-FC713E9B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A543-FD79-4ACC-A510-45EE7A23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0FC-1944-4E95-BE92-40F8B7CE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72C-D7D9-4BC6-8DEC-4214EDE1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A59-95B9-43E2-BD49-C581B513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1CB-247E-45AF-8A69-39FC354F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2D9-D49F-4A59-8774-224711E4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5A1-BDB0-4CAE-8607-75C18194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EC5-22F3-4588-B70F-D3336FEF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7C8F-658D-4D6B-8D8C-F1FB5CD7B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5496-C779-407C-B78A-AB636D833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4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layer.myshared.ru/801318/data/images/img22.jpg" TargetMode="External"/><Relationship Id="rId3" Type="http://schemas.openxmlformats.org/officeDocument/2006/relationships/hyperlink" Target="http://player.myshared.ru/171040/data/images/img10.jpg" TargetMode="External"/><Relationship Id="rId4" Type="http://schemas.openxmlformats.org/officeDocument/2006/relationships/hyperlink" Target="http://www.u-f.ru/sites/default/files/imagecache/750x450/news/31_avg_2014_-_2033/putin.jpg" TargetMode="External"/><Relationship Id="rId5" Type="http://schemas.openxmlformats.org/officeDocument/2006/relationships/hyperlink" Target="https://yandex.ru/images/search?cbir_id=e8wc2LvUj7Qqt-NJ0LdTrw&amp;rpt=imageview" TargetMode="External"/><Relationship Id="rId6" Type="http://schemas.openxmlformats.org/officeDocument/2006/relationships/hyperlink" Target="https://yandex.ru/images/search?cbir_id=e8wc2LvUj7Qqt-NJ0LdTrw&amp;rpt=imageview" TargetMode="External"/><Relationship Id="rId7" Type="http://schemas.openxmlformats.org/officeDocument/2006/relationships/hyperlink" Target="https://yandex.ru/images/search?cbir_id=e8wc2LvUj7Qqt-NJ0LdTrw&amp;rpt=imageview" TargetMode="External"/><Relationship Id="rId8" Type="http://schemas.openxmlformats.org/officeDocument/2006/relationships/hyperlink" Target="https://yandex.ru/images/search?cbir_id=e8wc2LvUj7Qqt-NJ0LdTrw&amp;rpt=imageview" TargetMode="External"/><Relationship Id="rId9" Type="http://schemas.openxmlformats.org/officeDocument/2006/relationships/hyperlink" Target="http://player.myshared.ru/986546/data/images/img40.jpg" TargetMode="External"/><Relationship Id="rId10" Type="http://schemas.openxmlformats.org/officeDocument/2006/relationships/hyperlink" Target="http://900igr.net/datai/obschestvoznanie/Istorija-gosudarstvennykh-simvolov-Rossii/0022-045-Gimn-Rossii.jpg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596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Модуль «Основы светской э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2440" y="21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ема уро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РОССИЯ – РОДИНА МО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001880" y="4500720"/>
            <a:ext cx="8769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начальных классов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Аносинская СОШ им. Г.И.Гуркина»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машева Юлия Андреевна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публика Ал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6" descr=""/>
          <p:cNvPicPr/>
          <p:nvPr/>
        </p:nvPicPr>
        <p:blipFill>
          <a:blip r:embed="rId2"/>
          <a:stretch/>
        </p:blipFill>
        <p:spPr>
          <a:xfrm>
            <a:off x="311040" y="2273400"/>
            <a:ext cx="4334040" cy="315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Объект 9" descr=""/>
          <p:cNvPicPr/>
          <p:nvPr/>
        </p:nvPicPr>
        <p:blipFill>
          <a:blip r:embed="rId3"/>
          <a:stretch/>
        </p:blipFill>
        <p:spPr>
          <a:xfrm>
            <a:off x="4413240" y="3084480"/>
            <a:ext cx="42973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" descr="D:\Фотки\Fotki\ийт-кая\P1010067.JPG"/>
          <p:cNvPicPr/>
          <p:nvPr/>
        </p:nvPicPr>
        <p:blipFill>
          <a:blip r:embed="rId2"/>
          <a:stretch/>
        </p:blipFill>
        <p:spPr>
          <a:xfrm>
            <a:off x="795240" y="228600"/>
            <a:ext cx="80028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АМОСТОЯТЕЛЬНАЯ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000" y="11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оставьте и запишите в тетрадь предложения со словами Россия, отечество, патриот, президе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2440" y="1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504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одолж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казывается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07880" y="1755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од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Я узнал, что у меня есть огромная ст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 тропинка, и  лесок, в поле каждый колос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ечка, небо голубое - это всё моё родно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Это Родина моя, всех люблю на свете я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.Ор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2" descr="B_Fly31"/>
          <p:cNvPicPr/>
          <p:nvPr/>
        </p:nvPicPr>
        <p:blipFill>
          <a:blip r:embed="rId2"/>
          <a:stretch/>
        </p:blipFill>
        <p:spPr>
          <a:xfrm rot="7628400">
            <a:off x="2080800" y="574560"/>
            <a:ext cx="1143000" cy="1054080"/>
          </a:xfrm>
          <a:prstGeom prst="rect">
            <a:avLst/>
          </a:prstGeom>
          <a:ln w="0">
            <a:noFill/>
          </a:ln>
        </p:spPr>
      </p:pic>
      <p:sp>
        <p:nvSpPr>
          <p:cNvPr id="124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 rot="551400">
            <a:off x="428436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b2bb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 rot="551400">
            <a:off x="336600" y="26172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b2bbe4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b2bb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efebf7"/>
              </a:gs>
            </a:gsLst>
            <a:lin ang="4848000"/>
          </a:gradFill>
          <a:ln w="9360">
            <a:solidFill>
              <a:srgbClr val="b2bb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 rot="551400">
            <a:off x="3404880" y="871200"/>
            <a:ext cx="1347840" cy="901800"/>
          </a:xfrm>
          <a:prstGeom prst="cloudCallout">
            <a:avLst>
              <a:gd name="adj1" fmla="val 181495"/>
              <a:gd name="adj2" fmla="val -68092"/>
            </a:avLst>
          </a:prstGeom>
          <a:gradFill rotWithShape="0">
            <a:gsLst>
              <a:gs pos="0">
                <a:srgbClr val="6e74ee"/>
              </a:gs>
              <a:gs pos="100000">
                <a:srgbClr val="efebf7"/>
              </a:gs>
            </a:gsLst>
            <a:lin ang="4848000"/>
          </a:gradFill>
          <a:ln w="9360">
            <a:solidFill>
              <a:srgbClr val="b2bb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9" name="Picture 24" descr="B_Fly14"/>
          <p:cNvPicPr/>
          <p:nvPr/>
        </p:nvPicPr>
        <p:blipFill>
          <a:blip r:embed="rId3"/>
          <a:stretch/>
        </p:blipFill>
        <p:spPr>
          <a:xfrm>
            <a:off x="641520" y="396720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b13"/>
          <p:cNvPicPr/>
          <p:nvPr/>
        </p:nvPicPr>
        <p:blipFill>
          <a:blip r:embed="rId4"/>
          <a:stretch/>
        </p:blipFill>
        <p:spPr>
          <a:xfrm>
            <a:off x="7677000" y="534672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arg-blue-left-tr"/>
          <p:cNvPicPr/>
          <p:nvPr/>
        </p:nvPicPr>
        <p:blipFill>
          <a:blip r:embed="rId5"/>
          <a:stretch/>
        </p:blipFill>
        <p:spPr>
          <a:xfrm>
            <a:off x="5164200" y="96372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B_Fly21"/>
          <p:cNvPicPr/>
          <p:nvPr/>
        </p:nvPicPr>
        <p:blipFill>
          <a:blip r:embed="rId6"/>
          <a:stretch/>
        </p:blipFill>
        <p:spPr>
          <a:xfrm rot="13640400">
            <a:off x="7679160" y="354204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b11"/>
          <p:cNvPicPr/>
          <p:nvPr/>
        </p:nvPicPr>
        <p:blipFill>
          <a:blip r:embed="rId7"/>
          <a:stretch/>
        </p:blipFill>
        <p:spPr>
          <a:xfrm>
            <a:off x="6334200" y="542448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b13"/>
          <p:cNvPicPr/>
          <p:nvPr/>
        </p:nvPicPr>
        <p:blipFill>
          <a:blip r:embed="rId8"/>
          <a:stretch/>
        </p:blipFill>
        <p:spPr>
          <a:xfrm>
            <a:off x="4890960" y="533232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5" descr="b11"/>
          <p:cNvPicPr/>
          <p:nvPr/>
        </p:nvPicPr>
        <p:blipFill>
          <a:blip r:embed="rId9"/>
          <a:stretch/>
        </p:blipFill>
        <p:spPr>
          <a:xfrm>
            <a:off x="3438360" y="5586480"/>
            <a:ext cx="995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19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.Т. Студеникин «Основы духовно-нравственной культуры народов России. Основы светской этики. 4 класс» - М.: «Русское слово»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0560" y="22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63480" y="134748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2"/>
              </a:rPr>
              <a:t>http://player.myshared.ru/801318/data/images/img2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3"/>
              </a:rPr>
              <a:t>http://player.myshared.ru/171040/data/images/img1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4"/>
              </a:rPr>
              <a:t>http://www.u-f.ru/sites/default/files/imagecache/750x450/news/31_avg_2014_-_2033/puti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5"/>
              </a:rPr>
              <a:t>https://</a:t>
            </a: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6"/>
              </a:rPr>
              <a:t>yandex.ru/images/search?cbir_id</a:t>
            </a: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7"/>
              </a:rPr>
              <a:t>=e8wc2LvUj7Qqt-NJ0LdTrw&amp;rpt=</a:t>
            </a: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8"/>
              </a:rPr>
              <a:t>imag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9"/>
              </a:rPr>
              <a:t>http://player.myshared.ru/986546/data/images/img4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379ce"/>
                </a:solidFill>
                <a:uFillTx/>
                <a:latin typeface="Arial"/>
                <a:ea typeface="Times New Roman"/>
                <a:hlinkClick r:id="rId10"/>
              </a:rPr>
              <a:t>http://900igr.net/datai/obschestvoznanie/Istorija-gosudarstvennykh-simvolov-Rossii/0022-045-Gimn-Rossii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idoska-barnaul.ru/images/2015/05/18/1458/14319779011079428596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img1.liveinternet.ru/images/attach/c/3/76/541/76541863_large_urochische_medvezhiy_ugo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ttps://yandex.ru/images/search?cbir_id=JDcAWQHqSkCpHPG7Opjjpw&amp;rpt=imag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ttps://yandex.ru/images/search?cbir_id=j_0ObqIGd3YUv82Xd0gdYg&amp;rpt=imag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нет-ресур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2822-4-f[1].jpg"/>
          <p:cNvPicPr/>
          <p:nvPr/>
        </p:nvPicPr>
        <p:blipFill>
          <a:blip r:embed="rId2"/>
          <a:stretch/>
        </p:blipFill>
        <p:spPr>
          <a:xfrm>
            <a:off x="-252360" y="-171360"/>
            <a:ext cx="939636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360" y="3938760"/>
            <a:ext cx="903132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лава нашего государства –презид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Путин Владимир Владимир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"/>
          <p:cNvPicPr/>
          <p:nvPr/>
        </p:nvPicPr>
        <p:blipFill>
          <a:blip r:embed="rId2"/>
          <a:stretch/>
        </p:blipFill>
        <p:spPr>
          <a:xfrm>
            <a:off x="2548080" y="411120"/>
            <a:ext cx="46544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Символы государственной в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осударственный ф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осударственный гер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осударственный гим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us_anim"/>
          <p:cNvPicPr/>
          <p:nvPr/>
        </p:nvPicPr>
        <p:blipFill>
          <a:blip r:embed="rId2"/>
          <a:stretch/>
        </p:blipFill>
        <p:spPr>
          <a:xfrm rot="20596200">
            <a:off x="6311880" y="901800"/>
            <a:ext cx="2502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Государственный ге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мблема государства, изображаемая на печатях, флагах, государственных официальных документах, денежных зна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 фоне щита красного цвета изображен золотой двуглавый ор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Рисунок16"/>
          <p:cNvPicPr/>
          <p:nvPr/>
        </p:nvPicPr>
        <p:blipFill>
          <a:blip r:embed="rId2"/>
          <a:stretch/>
        </p:blipFill>
        <p:spPr>
          <a:xfrm>
            <a:off x="5376960" y="2025720"/>
            <a:ext cx="33843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ГОСУДАРСТВЕННЫЙ ФЛ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rus_anim"/>
          <p:cNvPicPr/>
          <p:nvPr/>
        </p:nvPicPr>
        <p:blipFill>
          <a:blip r:embed="rId2"/>
          <a:stretch/>
        </p:blipFill>
        <p:spPr>
          <a:xfrm rot="20596200">
            <a:off x="487080" y="1733400"/>
            <a:ext cx="3998880" cy="2887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5592600" y="2362320"/>
            <a:ext cx="278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5045040" y="1920960"/>
            <a:ext cx="358128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БЕЛЫЙ ЦВЕТ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мир и чистота совести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ИНИЙ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небо, верность, правда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РАСНЫЙ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огонь, отвага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0"/>
          <p:cNvPicPr/>
          <p:nvPr/>
        </p:nvPicPr>
        <p:blipFill>
          <a:blip r:embed="rId2"/>
          <a:stretch/>
        </p:blipFill>
        <p:spPr>
          <a:xfrm>
            <a:off x="4792680" y="647640"/>
            <a:ext cx="4078440" cy="5904000"/>
          </a:xfrm>
          <a:prstGeom prst="rect">
            <a:avLst/>
          </a:prstGeom>
          <a:ln w="50760">
            <a:solidFill>
              <a:srgbClr val="000066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</p:pic>
      <p:sp>
        <p:nvSpPr>
          <p:cNvPr id="108" name=""/>
          <p:cNvSpPr txBox="1"/>
          <p:nvPr/>
        </p:nvSpPr>
        <p:spPr>
          <a:xfrm>
            <a:off x="482760" y="17654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оржественное музыкальное произведение, принятое как символ государственного еди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РОД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096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олк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1.Отечество, родная стр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2.Место рождения, происхождения кого-, чего-нибу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Этим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бщеславянское слово, образовано от слова «род» - происхождение, семья, «родиться», место рождения, старо-славянского слова родити. Россия впервые у Ивана Грозного. Раньше – Русь, откуда Русия. Отчизна, Отечество (с Держави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одственные слова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: Родной, родимая (сторона),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инонимы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: Отечество, Отчизна, родная страна, мать-зем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Фразеологизм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: Откуда есть пошла земля русская. Эмоционально-приподнятая фраза при повествовании об истории России. (Из «Повести временных лет» XII 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6:47:18Z</dcterms:created>
  <dc:creator>Admin</dc:creator>
  <dc:description/>
  <dc:language>en-US</dc:language>
  <cp:lastModifiedBy>User</cp:lastModifiedBy>
  <dcterms:modified xsi:type="dcterms:W3CDTF">2015-09-03T15:38:21Z</dcterms:modified>
  <cp:revision>29</cp:revision>
  <dc:subject/>
  <dc:title>Модуль « Светская этика»</dc:title>
</cp:coreProperties>
</file>